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1E4E-6785-4D90-9075-CA2814CAE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D1A2-7855-44E9-AC95-D2C5D188BC2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3D8B-6C03-45C8-AB45-9351357DC6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C8C2-F933-450F-8721-E686EF4CE51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4F26-C409-46C7-88FD-62BAA5D267D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7101-72C3-4DF0-92CD-5E4A2522D4B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A78-C27C-4EB4-BBB6-8596955D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96D-D2A4-48B0-9D77-A10AC9D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307-2840-4669-8574-93A0ED9D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1B5-82B6-48C7-95D8-1A228742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F27A-6787-417B-BF58-F56A8744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57A9-9B85-4AEB-9179-ABEBEF46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C3AB-7ED7-4BF7-9551-329276F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CA16-5C4A-42A2-9DB6-062C6CF6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655B-FF8F-4765-A011-20C3B3C9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C4E0-4454-472D-BF40-05068384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9AEB-102C-4470-9E8A-253DAC7D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176-1BFE-4223-AD5B-DAA7B8C9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F1C3-2350-47DB-B453-69B4CAC2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8992-6616-4A20-A1F2-E05587A0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A6C8-9B7D-41C6-A3D7-F39572B3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FB57-3186-4C0F-A5A5-68A2B07A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0C6A-33FC-4C91-BC67-4464DCF7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F9AB-6872-430A-84C5-255813D2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D878-3DDC-463A-BA26-0C4A88D5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3241-A284-438B-B4B5-17E89F26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B3F0-0BB3-4EE9-9F8F-33419067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22F8-AC6B-4677-941D-0DC1C73E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AAB-C66B-4200-94D9-BCEEE7B0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B63C-87E0-4CDD-840F-F4D056A4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834F-1837-4780-BD7C-67FD450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678D-CEA8-4F49-B556-2B43A72B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EE9B-0CD6-483B-820C-B8E70E7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8C3C-EA0D-4AE1-AEF5-1590980F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D06F-133A-4B74-BD6F-95815EFC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6747-7535-4480-A7BA-1C79972A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9A8BF-45B1-4394-B965-A482885E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7582B-0C0B-4319-B268-FF531BF9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B5F30-6982-43F8-87CC-2F5F2142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DBA-C2FF-49D1-8EAC-CD86C441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4983-778D-407E-8492-68736D9B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15BB1-38CF-40BF-9660-A7803E05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576DD-B0EA-403B-B420-BF4D9F59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8F39-C9C8-4453-B887-0684F82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BF51A-59F2-4A9C-81E3-8FF618A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015C-DB45-465D-B491-776BA747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9DB0-3765-4609-85DD-1F387D89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1EDDE-5104-4BCA-AF26-AE6466B2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4EAAE-7D42-434E-B88C-83965F58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D1D2A-AD19-497F-8B5A-16A443A1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D33-CD7F-4A30-8C51-40B1B909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21FF5-1F3D-4E56-9289-FFE5530D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BC95-258D-4DDE-AC47-F1BEC285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0DA68-8A11-4E26-8DF0-F3149DAE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CB0D5-4C80-43D9-A892-722354DF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309E8-1EC4-4F53-9F7B-E6592BBA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10069-1C3F-48D6-9AAA-3C5EDA7B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6FFD-616B-4089-83CE-6A3956B4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10A94-2F28-40C8-9F22-5B308DB1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59A8-D796-4B8C-BDC7-C40D9134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7432-E284-4DA8-BE46-BFEFF615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561-EA6B-4277-B071-B6F0249F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0955A-9E34-48F5-BD3B-0A4B312D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6716E-9323-4E17-91A9-A1A4B5F3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8EC48-6424-4FFD-8E58-62640001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0555-036B-4496-B607-D08FAF44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84B84-82AD-4246-B3AA-EBC7411B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A612E-910E-438D-B152-871CBD33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47916-72B5-46FB-BE27-103C0A24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A0E1-06B9-430E-BE08-3DB9677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D73ED-740F-4548-9315-5E1F9BEB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37F81-4F0B-4F19-BAB2-C4D400A1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54D-5AA9-44D6-BDFF-7A4EBBF5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74CC6-0FFF-473E-9C52-D92BAEC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95EBB-7F88-4620-936D-4F4E0924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C5748-32D2-4B06-9FB6-555EDDC8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1034-2D68-4D1A-A36A-8B23972E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79A4-7958-4F35-A27C-08BC14C0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8A802-1680-4837-BB5F-9CCECB34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D4BCF-3749-41C8-ADA4-A34BF817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8E1AB-DE1A-4780-8447-3ABD02EE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91DA7-E116-49DC-B267-774C992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A73E-5AB4-4E64-9538-6EB5D5CF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2CE-587D-4DAD-8784-9DC81E0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C54D-EED3-496D-9AE4-5F40353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34A3A-3951-42F2-8741-F51C990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142DB-C17B-4C8F-942F-A282B316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E3E7-92E5-4E92-ADE9-66297D62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7A0D7-3EFE-4D32-83BA-02E7EBDD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5D6-8C9E-4B8B-AEDD-8AF9383B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214D-4825-49CC-9AD2-78756676934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CE58-FB34-46C1-B0E4-BC45C6AF832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1DAB-FFF6-44B6-88B5-584B75F7870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2211-00F2-4FA2-A5CA-F2484F7A10B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A4E7-6063-4FDD-9406-0C09785C6EA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AB84-152F-41CB-B037-74B452F88AA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3406-DDE4-4940-ABEB-19B183B332BF}" type="datetime">
              <a:rPr b="0" lang="en-US" sz="1000" spc="-1" strike="noStrike">
                <a:solidFill>
                  <a:srgbClr val="9b9a98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6403-57E3-4F37-93D6-A6FAA0BA43C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238560"/>
          </a:xfrm>
          <a:prstGeom prst="rect">
            <a:avLst/>
          </a:prstGeom>
          <a:ln w="0">
            <a:noFill/>
          </a:ln>
        </p:spPr>
      </p:pic>
      <p:sp>
        <p:nvSpPr>
          <p:cNvPr id="30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61F0-C3D1-423D-A87C-F71A1A4E9C25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36960" y="202680"/>
            <a:ext cx="6107040" cy="253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НТРАХОСПИТАЛНЕ</a:t>
            </a:r>
            <a:r>
              <a:rPr b="0" lang="sr-Latn-C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R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sr-Latn-R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sr-RS" sz="2400" spc="-1" strike="noStrike">
                <a:solidFill>
                  <a:srgbClr val="ffff00"/>
                </a:solidFill>
                <a:latin typeface="Comic Sans MS"/>
              </a:rPr>
              <a:t>болничке или нозокомијалне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4726080" y="511812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Проф. др Биљана Поповска-Јович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D:\Users\Predrag Canovic\Desktop\intrahospitalne infekcije\2.jpg"/>
          <p:cNvPicPr/>
          <p:nvPr/>
        </p:nvPicPr>
        <p:blipFill>
          <a:blip r:embed="rId2"/>
          <a:stretch/>
        </p:blipFill>
        <p:spPr>
          <a:xfrm>
            <a:off x="347760" y="260280"/>
            <a:ext cx="299556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Најважнији вируси као узрочници интрахоспиталних инфек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ренос ваздух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Influenza, VZV,  Morbilli, Parainfluenza, Respiratorni sincijalni vir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Фекооралн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прен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Rotavirus, Norovi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Директни конта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HSV1, HSV2, VZ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Вируси који се преносе путем крви и крвних дерив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HBV, HCV, HI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B2D0-8716-42FA-8687-95D955FD956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Гљивице као узрочници интрахоспиталних инфекц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1699920"/>
            <a:ext cx="51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Квасниц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Candida spp. (C. albicans, C. glabrata, C.krusei, C.tropicalis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лес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spergillus spp, Acremonium s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uco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hizopus s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8D89-1633-42CB-9B48-EB3EBFA75B4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Content Placeholder 5" descr=""/>
          <p:cNvPicPr/>
          <p:nvPr/>
        </p:nvPicPr>
        <p:blipFill>
          <a:blip r:embed="rId1"/>
          <a:stretch/>
        </p:blipFill>
        <p:spPr>
          <a:xfrm>
            <a:off x="5224320" y="2698920"/>
            <a:ext cx="3657600" cy="232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9720" y="933480"/>
            <a:ext cx="607212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Учесталост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различит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а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77840" y="1891800"/>
            <a:ext cx="77961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 мокраћних пут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јчешће услед манипулација у мокраћном тра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д 20-25% болесника са уринарним катете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 респораторних путе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а пнеумонија је друга по учесталости болничка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дужава хоспитализацију болесника за 4-9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талитет се креће између 20-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5BC1-4394-416F-BB57-EFEA230FBEDC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923400" y="1892160"/>
            <a:ext cx="79376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хируршк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ран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12%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ирурш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есник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разви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ируршк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ран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одужава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ацију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есник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з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6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да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Инфекције</a:t>
            </a:r>
            <a:r>
              <a:rPr b="1" lang="sr-Latn-RS" sz="1900" spc="-1" strike="noStrike">
                <a:solidFill>
                  <a:srgbClr val="ffff00"/>
                </a:solidFill>
                <a:latin typeface="Cambria"/>
                <a:ea typeface="Arial"/>
              </a:rPr>
              <a:t> </a:t>
            </a:r>
            <a:r>
              <a:rPr b="1" lang="sr-RS" sz="1900" spc="-1" strike="noStrike">
                <a:solidFill>
                  <a:srgbClr val="ffff00"/>
                </a:solidFill>
                <a:latin typeface="Cambria"/>
                <a:ea typeface="Arial"/>
              </a:rPr>
              <a:t>крв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рви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пс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)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чин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око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6%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фекциј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ећин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их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пси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овезан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је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траваскуларним</a:t>
            </a:r>
            <a:r>
              <a:rPr b="0" lang="sr-Latn-R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атетери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B049-E231-4E18-BC2E-EB54B6606652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038240" y="1000440"/>
            <a:ext cx="626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Најзначајнији облици резистенције (мултирезистентни микроорганиз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961920" y="2084400"/>
            <a:ext cx="772020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ч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слови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чест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етицил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Staphylococcus aureus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нкомиц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Enterococcus (VR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улти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ра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гатив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штапић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ESBL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актамазе проширеног спектра деловањ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љив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D4AE-983C-4E3E-82A0-05B2DDAC171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7" descr="D:\Users\Predrag Canovic\Desktop\intrahospitalne infekcije\4.jpg"/>
          <p:cNvPicPr/>
          <p:nvPr/>
        </p:nvPicPr>
        <p:blipFill>
          <a:blip r:embed="rId1"/>
          <a:stretch/>
        </p:blipFill>
        <p:spPr>
          <a:xfrm>
            <a:off x="6222960" y="4427640"/>
            <a:ext cx="268776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1033560" y="804600"/>
            <a:ext cx="75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Најважнији поступци у смањивању појаве и контроли мултирезистентних микро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961920" y="2084400"/>
            <a:ext cx="801540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ктивно праћење инфекција и препознавање типова резистенција на антибио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обра микробиолошка лабораторијска прак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елотворна контрола употребе антибио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Развијање и примена адекватних мера за контролу инфе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декватно чишћење и деконтаминација болничке сред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Едукација и практична обука здравственог особљ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9621-8BBD-4E17-BB23-652E97081C80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1000080" y="1041120"/>
            <a:ext cx="79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Метицилин резистентни 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Staphylococcus aureus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МRS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955800" y="2162160"/>
            <a:ext cx="79182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Staphylococcus aureu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зазива инфекције коже и меких ткива, као и системске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Comic Sans MS"/>
              </a:rPr>
              <a:t>Staphylococcus aureu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30% здравих особа има  у но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МRSА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је главни болнички патоген у свету (ЈИН, инфекције васкуларних/ортопедских имплантата, инфекције хируршких рана, сепсе, пнеумониј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F0E2-5D58-4993-ABA0-0D6930D12EE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3"/>
          <p:cNvSpPr/>
          <p:nvPr/>
        </p:nvSpPr>
        <p:spPr>
          <a:xfrm>
            <a:off x="923760" y="1969920"/>
            <a:ext cx="801540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Извор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фекциј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олонизациј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Пут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прено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лав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у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ношењ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д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к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ук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здравстве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адни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адекватн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ањ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ук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RSA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ста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ендемич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7B1D-3B08-428A-B6B1-404ABD1DC3CA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1154160" y="824040"/>
            <a:ext cx="62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Ванкомицин-резистентним Enterococcus (VR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1077840" y="2200320"/>
            <a:ext cx="783432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Фактори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тход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нкомицин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ишестру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нтибиотиц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рај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магал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централ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енск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инар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ренов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л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Животн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гроже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нколошки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дељењи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л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ниц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ој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с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ма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нтраабдомин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орак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ртопедск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скулар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олошк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шк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снов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е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муносупрес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D551-EFCD-4D3A-AC56-3101D6366882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"/>
          <p:cNvSpPr/>
          <p:nvPr/>
        </p:nvSpPr>
        <p:spPr>
          <a:xfrm>
            <a:off x="1038240" y="1382760"/>
            <a:ext cx="7835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Извор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Enterococcus faecium и Enterococcus fecalis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су сапрофити у интестиналном тракту (због употребе широкоспектралних антибиотика могу постати патоге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Начин прено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јчешће са болесника на болесника преко руку здравственог особља или преко контаминиране опреме за негу болес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36BD-7E35-480E-8C96-23D7F8E46380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91960" y="893880"/>
            <a:ext cx="568476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ffff00"/>
                </a:solidFill>
                <a:latin typeface="Comic Sans MS"/>
              </a:rPr>
              <a:t>Дефиниција</a:t>
            </a:r>
            <a:r>
              <a:rPr b="0" i="1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sr-RS" sz="2200" spc="-1" strike="noStrike">
                <a:solidFill>
                  <a:srgbClr val="ffff00"/>
                </a:solidFill>
                <a:latin typeface="Comic Sans MS"/>
              </a:rPr>
              <a:t>болничких инфекција (БИ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85960" y="2063880"/>
            <a:ext cx="7603920" cy="386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4000"/>
          </a:bodyPr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с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линичк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споље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обољењ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ављај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ацијенат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равк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лечењ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лниц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ал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д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особљ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рад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олн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48</a:t>
            </a:r>
            <a:r>
              <a:rPr b="0" lang="en-US" sz="2000" spc="-1" strike="noStrike" baseline="30000">
                <a:solidFill>
                  <a:srgbClr val="002060"/>
                </a:solidFill>
                <a:latin typeface="Cambria"/>
                <a:ea typeface="Arial"/>
              </a:rPr>
              <a:t> h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акон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а и унутар 3 дана након отпу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нфекци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кој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и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л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сут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а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нит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ацијент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био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инкубацији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ликом</a:t>
            </a:r>
            <a:r>
              <a:rPr b="0" lang="sr-Latn-CS" sz="2000" spc="-1" strike="noStrike">
                <a:solidFill>
                  <a:srgbClr val="002060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иј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just"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  <a:ea typeface="Arial"/>
              </a:rPr>
              <a:t>Према пореклу могу бити ендогене и егзоге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76B4-7A7E-4971-9A37-96331BDE06C3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6877080" y="5234040"/>
            <a:ext cx="170028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1038240" y="101268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Вишеструко резистентне грам-негативне бактер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1023840" y="1969920"/>
            <a:ext cx="7834320" cy="41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Мног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ра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егатив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актериј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i="1" lang="sr-Latn-RS" sz="2000" spc="-1" strike="noStrike">
                <a:solidFill>
                  <a:srgbClr val="ffffff"/>
                </a:solidFill>
                <a:latin typeface="Cambria"/>
              </a:rPr>
              <a:t>Klebsiela, Esherichia colli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уч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ет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лактамаз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шт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чин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резистент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Фактори</a:t>
            </a:r>
            <a:r>
              <a:rPr b="1" lang="sr-Latn-R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Cambria"/>
              </a:rPr>
              <a:t>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васкулар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исутност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ринарних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кате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Хит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бдоминалн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остојање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цевчиц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з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гастростом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ил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ејуностом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Дужи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равак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болницам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(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нарочито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ЈИН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у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Претходн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r>
              <a:rPr b="0" lang="sr-Latn-R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sr-RS" sz="2000" spc="-1" strike="noStrike">
                <a:solidFill>
                  <a:srgbClr val="ffffff"/>
                </a:solidFill>
                <a:latin typeface="Cambria"/>
              </a:rPr>
              <a:t>антибиотиц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1011-92DB-4F6C-8861-2820BD2FF208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1038240" y="1009800"/>
            <a:ext cx="68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Инфекција коју узрокује Clostridium diffic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042920" y="2008080"/>
            <a:ext cx="786924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нфекција сa  </a:t>
            </a:r>
            <a:r>
              <a:rPr b="0" i="1" lang="en-US" sz="1800" spc="-1" strike="noStrike">
                <a:solidFill>
                  <a:srgbClr val="ffff00"/>
                </a:solidFill>
                <a:latin typeface="Cambria"/>
              </a:rPr>
              <a:t>Clostridium difficile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је данас најчешћи узрочник пролива стечених у болн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Клиничке карактерис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ролив се обично јавља 5-10 дана (распон: неколико дана до 2 месеца) након почетка антибиотске терап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јтежи облик болести се назива псеудомембранозни колит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Компликације: панколитис, токсични мегаколон, перфорација и ендотоксични 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Болест је склона релапсима (код 15-25%, унутар 2-4 недељ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C3FF-03F6-4702-80DF-BD22DD422378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000080" y="1085760"/>
            <a:ext cx="783432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Фактори риз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екритична употреба антибиотика широког спектра, посебно беталактамских антибио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Гастроинтестинални и хируршки захв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Старија животна доб (старији и исцрпљени болесниц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Извор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звор инфекције су болесници са клостридијалним колитисом који излучује патогене столиц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Инфекција се најчешће шири међу болесницима контактом (директним или индиректни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5F84-F96D-4CF1-8B4B-95474250FD1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1000080" y="1278000"/>
            <a:ext cx="779616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Дијагн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Детекција токсина на </a:t>
            </a:r>
            <a:r>
              <a:rPr b="0" i="1" lang="en-US" sz="2000" spc="-1" strike="noStrike">
                <a:solidFill>
                  <a:srgbClr val="ffff00"/>
                </a:solidFill>
                <a:latin typeface="Cambria"/>
              </a:rPr>
              <a:t>Clostridium difficile</a:t>
            </a:r>
            <a:r>
              <a:rPr b="0" i="1" lang="en-US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у столиц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Лече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рекид антибиотске терапија која је довела до измене микрофлоре црева или променити у терапију антибиотицима који су мање повезани са колити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отребно избегавати антиперисталтичке лекове (Loperam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Надокнада течности и електроли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Антибиотици: Метронидазол тбл. 400 mg 3x1 10-14 дана (лек првог избора) или Vankomicin орално 4x125 mg 10-14 д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4E0F-DE8D-49B7-9499-DD27E9E665B8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rcRect l="3975" t="20027" r="39490" b="7135"/>
          <a:stretch/>
        </p:blipFill>
        <p:spPr>
          <a:xfrm>
            <a:off x="385920" y="1674720"/>
            <a:ext cx="4881240" cy="47149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"/>
          <p:cNvSpPr/>
          <p:nvPr/>
        </p:nvSpPr>
        <p:spPr>
          <a:xfrm>
            <a:off x="1172880" y="89388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Кључне стратешке мере превен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2"/>
          <p:cNvSpPr/>
          <p:nvPr/>
        </p:nvSpPr>
        <p:spPr>
          <a:xfrm>
            <a:off x="5438880" y="1803240"/>
            <a:ext cx="370512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ревенција инфекције (вакцинација, изолација, не радити док ерозија не зарасте, рукавице, наочаре, маске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Рана дијагноза и терапија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(надзор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Селективна употреба антибиоти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800"/>
              </a:spcBef>
              <a:buClr>
                <a:srgbClr val="ffff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Превенција преноса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8B2B-8851-47A8-A25D-ACB3CEDF7AAD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5640" y="855720"/>
            <a:ext cx="464652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раћење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их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а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85960" y="1891800"/>
            <a:ext cx="796608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Cambria"/>
                <a:ea typeface="Arial"/>
              </a:rPr>
              <a:t>Свака здрваствена организација је у обавези да прати болничке инфекциј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лавни циљеви праћења болничких инфекција су следећ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мањење учесталости инфекција у болничким услов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тврђивање сопствених стопа инфек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ткривање епидем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поређивање стопа учесталости болничких инфекција између здравствених устан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евалуирање мера за контролу инфекција</a:t>
            </a:r>
            <a:r>
              <a:rPr b="1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604360" y="6462720"/>
            <a:ext cx="539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0874-D40F-455F-986F-81A7309C7304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19680" y="1201680"/>
            <a:ext cx="4008240" cy="80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Хвала на пажњи!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1B33-68FB-441E-B79A-ED7E1653E668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D:\Users\Predrag Canovic\Desktop\intrahospitalne infekcije\8.jpg"/>
          <p:cNvPicPr/>
          <p:nvPr/>
        </p:nvPicPr>
        <p:blipFill>
          <a:blip r:embed="rId1"/>
          <a:stretch/>
        </p:blipFill>
        <p:spPr>
          <a:xfrm>
            <a:off x="270000" y="1892160"/>
            <a:ext cx="2965320" cy="1973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D:\Users\Predrag Canovic\Desktop\intrahospitalne infekcije\9.jpe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915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1038240" y="100980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ХВАЛА НА ПАЖЊИ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33280" y="933480"/>
            <a:ext cx="430524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значај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77480" y="2084400"/>
            <a:ext cx="679788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5-10%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ова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ат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об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зроку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100 000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мтр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лучајев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годишњ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Виш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д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70%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зрочник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ултирезистент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F8D5-A341-42E4-9960-507030245A4C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933480" y="4089240"/>
            <a:ext cx="2424240" cy="1818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5438880" y="4159080"/>
            <a:ext cx="2212920" cy="17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3800" y="893880"/>
            <a:ext cx="499572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олничк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-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оследице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22120" y="2199960"/>
            <a:ext cx="71802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бидитет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орталит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одуже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ац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ог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лечењ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овећањ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це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лечењ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19"/>
          <p:cNvGraphicFramePr/>
          <p:nvPr/>
        </p:nvGraphicFramePr>
        <p:xfrm>
          <a:off x="5608800" y="4311720"/>
          <a:ext cx="182088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8800" y="4311720"/>
                    <a:ext cx="182088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415B-E604-4A33-99EF-A3C08EF1CE8E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93680" y="933480"/>
            <a:ext cx="51292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Пацијенти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ризику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настанак</a:t>
            </a:r>
            <a:r>
              <a:rPr b="0" lang="sr-Latn-C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RS" sz="2200" spc="-1" strike="noStrike">
                <a:solidFill>
                  <a:srgbClr val="ffff00"/>
                </a:solidFill>
                <a:latin typeface="Comic Sans MS"/>
              </a:rPr>
              <a:t>Б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37880" y="2008080"/>
            <a:ext cx="612756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оворођенчад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ец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тариј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со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ј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у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дуг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оспитализов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мунокомпромитов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хроничним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болести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102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цијент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олонизован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РМ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38DB-DA85-49AD-8CDC-39D41055770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385920" y="5388120"/>
            <a:ext cx="1128600" cy="1253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4672080" y="5403960"/>
            <a:ext cx="1111320" cy="1224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3179880" y="5416560"/>
            <a:ext cx="1209600" cy="1198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1797120" y="5373720"/>
            <a:ext cx="1098360" cy="1282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066000" y="5388120"/>
            <a:ext cx="1257120" cy="12556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"/>
          <p:cNvPicPr/>
          <p:nvPr/>
        </p:nvPicPr>
        <p:blipFill>
          <a:blip r:embed="rId6"/>
          <a:stretch/>
        </p:blipFill>
        <p:spPr>
          <a:xfrm>
            <a:off x="7605720" y="5388120"/>
            <a:ext cx="1095480" cy="12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31840" y="701280"/>
            <a:ext cx="2478240" cy="4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Фактори</a:t>
            </a:r>
            <a:r>
              <a:rPr b="0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ризик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23480" y="1969920"/>
            <a:ext cx="6381720" cy="28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траваскулар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пр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уринарних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кате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нтубациј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ли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механичк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вентил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Операц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рисуство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назогастричне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сон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Трансфузиј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Парентерална</a:t>
            </a:r>
            <a:r>
              <a:rPr b="0" lang="sr-Latn-CS" sz="20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mbria"/>
                <a:ea typeface="Arial"/>
              </a:rPr>
              <a:t>ис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D068-67F0-45DD-8963-3A441BD5101F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585720" y="5173560"/>
            <a:ext cx="1144800" cy="1457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3535200" y="5338800"/>
            <a:ext cx="1209960" cy="1293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3"/>
          <a:stretch/>
        </p:blipFill>
        <p:spPr>
          <a:xfrm>
            <a:off x="2031840" y="5241960"/>
            <a:ext cx="1233720" cy="1388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4"/>
          <a:stretch/>
        </p:blipFill>
        <p:spPr>
          <a:xfrm>
            <a:off x="5016600" y="5338800"/>
            <a:ext cx="1260360" cy="1336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5"/>
          <a:stretch/>
        </p:blipFill>
        <p:spPr>
          <a:xfrm>
            <a:off x="6461280" y="5286240"/>
            <a:ext cx="1096920" cy="1322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6"/>
          <a:stretch/>
        </p:blipFill>
        <p:spPr>
          <a:xfrm>
            <a:off x="7740720" y="5276880"/>
            <a:ext cx="11840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5640" y="933480"/>
            <a:ext cx="3148200" cy="51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утеви</a:t>
            </a:r>
            <a:r>
              <a:rPr b="0" lang="sr-Latn-C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37880" y="2122560"/>
            <a:ext cx="7527960" cy="28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14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икроорганизм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у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ц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еколико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чи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ст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икроорганизам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мож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ет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еколико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ачин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онтакт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,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директ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индиректн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Капљич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аздух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4200" indent="-250920"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ренос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путем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вектора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(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није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војствен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болничкој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Cambria"/>
                <a:ea typeface="Arial"/>
              </a:rPr>
              <a:t>средини</a:t>
            </a:r>
            <a:r>
              <a:rPr b="0" lang="sr-Latn-CS" sz="1900" spc="-1" strike="noStrike">
                <a:solidFill>
                  <a:srgbClr val="ffffff"/>
                </a:solidFill>
                <a:latin typeface="Cambria"/>
                <a:ea typeface="Arial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spcBef>
                <a:spcPts val="1199"/>
              </a:spcBef>
              <a:buClr>
                <a:srgbClr val="ffff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8836200" y="6462720"/>
            <a:ext cx="3078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CAFB-7287-4AB2-84B3-2EC4DCEE830D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imp2"/>
          <p:cNvPicPr/>
          <p:nvPr/>
        </p:nvPicPr>
        <p:blipFill>
          <a:blip r:embed="rId1"/>
          <a:stretch/>
        </p:blipFill>
        <p:spPr>
          <a:xfrm rot="21022200">
            <a:off x="6515280" y="417600"/>
            <a:ext cx="2419200" cy="1555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D:\Users\Predrag Canovic\Desktop\intrahospitalne infekcije\6.jpg"/>
          <p:cNvPicPr/>
          <p:nvPr/>
        </p:nvPicPr>
        <p:blipFill>
          <a:blip r:embed="rId2"/>
          <a:stretch/>
        </p:blipFill>
        <p:spPr>
          <a:xfrm>
            <a:off x="193680" y="492588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Узрочници интрахоспиталних инфекција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488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mbria"/>
              </a:rPr>
              <a:t>Бактер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Вирус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Гљив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Протозо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Прион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B126-402E-48D1-A5CB-346C1656A6D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548240" y="4767120"/>
            <a:ext cx="4529160" cy="2876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 rot="20511600">
            <a:off x="4701960" y="1728360"/>
            <a:ext cx="2423880" cy="171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1" name="Picture 2" descr=""/>
          <p:cNvPicPr/>
          <p:nvPr/>
        </p:nvPicPr>
        <p:blipFill>
          <a:blip r:embed="rId3"/>
          <a:stretch/>
        </p:blipFill>
        <p:spPr>
          <a:xfrm rot="20799000">
            <a:off x="696600" y="4551120"/>
            <a:ext cx="2108160" cy="210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Најважнији бактеријски узрочници интрахоспиталних инфекциј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638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Грам позитивне бактериј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taphylococcus aur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Enterococcus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oagulaza  negativan Staphylococ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Грам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негативне бактериј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Escherichia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Pseudomonas aerugin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Klebsiell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rrati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Acinetobacter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55B-A891-4422-919A-513B0DFA3E9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7:46:03Z</dcterms:created>
  <dc:creator>Dragan Adamovic</dc:creator>
  <dc:description/>
  <dc:language>en-US</dc:language>
  <cp:lastModifiedBy>Predrag Canovic</cp:lastModifiedBy>
  <dcterms:modified xsi:type="dcterms:W3CDTF">2024-01-31T19:27:32Z</dcterms:modified>
  <cp:revision>238</cp:revision>
  <dc:subject/>
  <dc:title>Slide 1</dc:title>
</cp:coreProperties>
</file>